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3BB3-A422-41BB-BD44-EF33C926F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66A1-09FF-45AE-81ED-49303CC59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99D6-0CE8-47AE-B513-8846B0DBA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7316-4F86-4B85-A088-47592ABBA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CEA6-9341-45D3-AFFC-BB2A8CC2C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61B0-DC78-444C-BF44-4B5D8B196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BCCA-DDE9-47BA-8C85-A2B1351E5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453D-6C06-45FC-8441-52C4888B5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108B-BEA2-4026-9109-A68D509BD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3825-F7C8-4AAD-95CF-CF3E3D03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B24F-4B7D-4039-A33D-5925C71A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020D-D5B9-4AF1-932A-BEF76C9DD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038DF-54E1-4F2B-A0E1-478CE5843F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7400" y="1066680"/>
            <a:ext cx="49528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Calibri"/>
              </a:rPr>
              <a:t>B-17 Bomber Pilo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819520" y="4952520"/>
            <a:ext cx="3657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c000"/>
                </a:solidFill>
                <a:latin typeface="Calibri"/>
              </a:rPr>
              <a:t>Nick LeMast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c000"/>
                </a:solidFill>
                <a:latin typeface="Calibri"/>
              </a:rPr>
              <a:t>Kyle Kalanish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c000"/>
                </a:solidFill>
                <a:latin typeface="Calibri"/>
              </a:rPr>
              <a:t>Kyle Lewi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c000"/>
                </a:solidFill>
                <a:latin typeface="Calibri"/>
              </a:rPr>
              <a:t>Deman Cook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Content Placeholder 3" descr="M35-Luftwaffe-DD-Snakeleg_decal.jpg"/>
          <p:cNvPicPr/>
          <p:nvPr/>
        </p:nvPicPr>
        <p:blipFill>
          <a:blip r:embed="rId2"/>
          <a:stretch/>
        </p:blipFill>
        <p:spPr>
          <a:xfrm>
            <a:off x="4572000" y="2332080"/>
            <a:ext cx="4572000" cy="4525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Luftwaffe.jpg"/>
          <p:cNvPicPr/>
          <p:nvPr/>
        </p:nvPicPr>
        <p:blipFill>
          <a:blip r:embed="rId3"/>
          <a:stretch/>
        </p:blipFill>
        <p:spPr>
          <a:xfrm>
            <a:off x="-228600" y="2362320"/>
            <a:ext cx="49006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8:51:32Z</dcterms:created>
  <dc:creator>Information Technology</dc:creator>
  <dc:description/>
  <dc:language>en-US</dc:language>
  <cp:lastModifiedBy>Information Technology</cp:lastModifiedBy>
  <dcterms:modified xsi:type="dcterms:W3CDTF">2010-02-16T19:05:34Z</dcterms:modified>
  <cp:revision>6</cp:revision>
  <dc:subject/>
  <dc:title>B-17 Bomber Pilot </dc:title>
</cp:coreProperties>
</file>